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CD6-10D7-4774-AE96-30DC1614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78E-D6C6-4AC0-842C-21C49213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658-759D-43FE-B018-4901C2ED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95E-4072-4661-BA52-1B132047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EB99-ACFB-447C-B567-9A956E5C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65AD-31F3-4C30-B38E-9A6FEDBC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A649-3015-4F7F-B678-AF9E320D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75FA-3A11-4743-9DBE-9420A2B8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4AA9-3161-4761-BF73-D963FB53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228F-59CE-4E76-8917-4DCB73EB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A2FD-CD5A-4913-B30D-D539B4FF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AA1-A0F4-4734-83EB-E43E274A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4D80-4A21-4F1F-8C1C-E7C38E18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F753-A9A2-4567-9F28-FF0F985E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A502-726C-4AA7-94B0-3AF8E3BD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AB53-DB56-433C-BB92-7FCF316E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A966-844A-4B92-988C-018EA1FF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886-AF60-49F3-8F8B-AFC095E0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B41-077F-4DF1-BDCB-5E1E9E1F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659D-8B01-4080-A21A-06BFA168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4C2-3866-4997-B894-A6D86B85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DFF-44A7-4BDC-93CA-C05784ED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3A1-54ED-4F43-8D4C-6FAD5C6B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0F5-BD16-4389-B9F7-D3D603C8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BC0D-D7C3-41C6-893D-D285BDB0F0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F77C-BE27-473C-AC4C-DF16260494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Диффузные и планетарные туманности в процессе эволюции галактик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5028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полнила: Прокофьева Юлия Вячеслав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 617 Зеленоградский А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ланетарные туманности – разновидность диффузных туманностей.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центре планетарных туманностей находится звез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относится к типу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V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4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260360"/>
            <a:ext cx="7848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 27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Лисич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6600" y="838080"/>
            <a:ext cx="5837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Кошачий глаз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72388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Эскимос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97240" y="1219320"/>
            <a:ext cx="67467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1905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54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75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мные туманност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межзвездной среде открыты огромные холодные области - 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молекулярные облака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- с температурой 5 – 50 К и очень горячий газ с температурой 10</a:t>
            </a:r>
            <a:r>
              <a:rPr b="0" lang="ru-RU" sz="4000" spc="-1" strike="noStrike" baseline="30000">
                <a:solidFill>
                  <a:srgbClr val="ffcc66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 К –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коронарный газ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ная туманность «Конская Голов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«Курительная Труб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Южный Угольный Меш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везды образуются в результате гравитационной неустойчивости в холодных и плотных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олекулярных облаках, поэтому звёзды рождаются группами, скоплениями, комплексами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фракрасное излучение центра нашей Галакти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ста активного звездообразо -вания – холодные струи га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се диффузные туманности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неправильную форму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стоят из межзвёздной пыли и газ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Ориона (центральная часть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1290600"/>
            <a:ext cx="67816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Трехраздельна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Омег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727200"/>
            <a:ext cx="85345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Лагун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705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абовидная туманность М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812880"/>
            <a:ext cx="83818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Розет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7240"/>
            <a:ext cx="83818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x</cp:lastModifiedBy>
  <dcterms:modified xsi:type="dcterms:W3CDTF">2005-05-20T13:28:55Z</dcterms:modified>
  <cp:revision>71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 </dc:title>
</cp:coreProperties>
</file>